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B817B-3821-465D-AEE3-323D38AD4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5746C-A464-41F1-85FB-E05142DD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BC538-4817-4B97-95DA-583DAE1D7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F2008-F562-49C4-9828-3CA5F6ED6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00277-D7A6-4BEC-B236-3D0876DEF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681DA-B851-4255-A4EB-F3ACDD70C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CE7DE-D6D1-4C04-9F81-A163F9A05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EB507-D16E-4090-A8F4-601B18CD1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CD505-0C0D-4CD0-B5A4-DD9E48624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59E3F-1877-44C2-AF83-06AAE54D9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2B621-148A-473E-99F4-D47D02E01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C432-6760-483D-B26F-9E9A476D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9D09B-391A-4C41-9885-EB06B8611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F4760-DB3F-4246-A53D-1300C2E5E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EFBC3-496B-4FE7-A32F-CF2FEF26C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751C6-2B74-43E9-A866-EB9D40B30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BB139-EE8D-4894-83B2-90EA5B784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6527-B6A9-4FB2-8C9C-6237D2AF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EEB7-3CA4-4103-9061-4537A1654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8C4E5-DA52-42E6-8C53-18DD4E83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96E6-9871-4EDF-BF34-5E9635A1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E691-D95B-48BE-85AF-D6F5A0C3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9458-99CD-4543-BCDE-195BD551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814E-EE52-4F7B-94CF-B677FD687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4385-95E6-49B6-BE46-24F909C8F41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8B22-02AD-4C07-9505-0DBD2897192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hyperlink" Target="http://www.youtube.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abbly.com/" TargetMode="External"/><Relationship Id="rId2" Type="http://schemas.openxmlformats.org/officeDocument/2006/relationships/hyperlink" Target="http://www.gabbly.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wikispaces.com/Wikispaces+Updates" TargetMode="External"/><Relationship Id="rId2" Type="http://schemas.openxmlformats.org/officeDocument/2006/relationships/hyperlink" Target="mailto:help@wikispaces.com" TargetMode="External"/><Relationship Id="rId3" Type="http://schemas.openxmlformats.org/officeDocument/2006/relationships/hyperlink" Target="http://blog.wikispaces.com/" TargetMode="External"/><Relationship Id="rId4" Type="http://schemas.openxmlformats.org/officeDocument/2006/relationships/hyperlink" Target="http://www.wikispaces.com/change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that you need to have confirmed your email address by clicking on the link we sent you on signup. You can resend this email by clicking on 'Settings' at the top of the page when you're signed in. </a:t>
            </a:r>
            <a:endParaRPr b="0" lang="en-US" sz="3200" spc="-1" strike="noStrike">
              <a:solidFill>
                <a:srgbClr val="000000"/>
              </a:solidFill>
              <a:latin typeface="Comic Sans MS"/>
            </a:endParaRPr>
          </a:p>
        </p:txBody>
      </p:sp>
      <p:sp>
        <p:nvSpPr>
          <p:cNvPr id="151" name="PlaceHolder 2"/>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ail Confirm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load photo portraits (~5Kb)</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dth=107 px</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ight=160 px</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y attention to the size of each image (shrink it to reasonable size, e.g. 60K)</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 it best as GIF or PNG fil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2"/>
          <p:cNvSpPr>
            <a:spLocks noGrp="1"/>
          </p:cNvSpPr>
          <p:nvPr>
            <p:ph type="title"/>
          </p:nvPr>
        </p:nvSpPr>
        <p:spPr>
          <a:xfrm>
            <a:off x="685800" y="152280"/>
            <a:ext cx="78487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of Pictu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put the latest YouTube clip on your space? You know you do:</a:t>
            </a:r>
            <a:br>
              <a:rPr sz="2800"/>
            </a:br>
            <a:endParaRPr b="0" lang="en-US" sz="28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 to </a:t>
            </a:r>
            <a:r>
              <a:rPr b="0" lang="en-US" sz="1800" spc="-1" strike="noStrike" u="sng">
                <a:solidFill>
                  <a:srgbClr val="00b200"/>
                </a:solidFill>
                <a:uFillTx/>
                <a:latin typeface="Comic Sans MS"/>
                <a:hlinkClick r:id="rId1"/>
              </a:rPr>
              <a:t>http://</a:t>
            </a:r>
            <a:r>
              <a:rPr b="0" lang="en-US" sz="1800" spc="-1" strike="noStrike" u="sng">
                <a:solidFill>
                  <a:srgbClr val="00b200"/>
                </a:solidFill>
                <a:uFillTx/>
                <a:latin typeface="Comic Sans MS"/>
                <a:hlinkClick r:id="rId2"/>
              </a:rPr>
              <a:t>www.youtube.com</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the video you want on your space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About This Video" box, select and copy the text in the URL or Embed box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 to the page on Wikispaces where you want to put the video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Edit this page"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Embed Media button (it looks like a little TV)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ste the text you copied into the "Source" box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OK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Save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Putting</a:t>
            </a:r>
            <a:r>
              <a:rPr b="0" lang="en-US" sz="2000" spc="-1" strike="noStrike">
                <a:solidFill>
                  <a:srgbClr val="000000"/>
                </a:solidFill>
                <a:latin typeface="Comic Sans MS"/>
              </a:rPr>
              <a:t> live chat on your Wikispace:</a:t>
            </a:r>
            <a:br>
              <a:rPr sz="2000"/>
            </a:br>
            <a:r>
              <a:rPr b="0" lang="en-US" sz="2000" spc="-1" strike="noStrike">
                <a:solidFill>
                  <a:srgbClr val="000000"/>
                </a:solidFill>
                <a:latin typeface="Comic Sans MS"/>
              </a:rPr>
              <a:t>Insert a Gabbly Live Chat to Any Page</a:t>
            </a:r>
            <a:endParaRPr b="0" lang="en-US" sz="2000" spc="-1" strike="noStrike">
              <a:solidFill>
                <a:srgbClr val="000000"/>
              </a:solidFill>
              <a:latin typeface="Comic Sans MS"/>
            </a:endParaRPr>
          </a:p>
        </p:txBody>
      </p:sp>
      <p:sp>
        <p:nvSpPr>
          <p:cNvPr id="157"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 </a:t>
            </a:r>
            <a:r>
              <a:rPr b="0" lang="en-US" sz="2400" spc="-1" strike="noStrike" u="sng">
                <a:solidFill>
                  <a:srgbClr val="00b200"/>
                </a:solidFill>
                <a:uFillTx/>
                <a:latin typeface="Comic Sans MS"/>
                <a:hlinkClick r:id="rId1"/>
              </a:rPr>
              <a:t>http://</a:t>
            </a:r>
            <a:r>
              <a:rPr b="0" lang="en-US" sz="2400" spc="-1" strike="noStrike" u="sng">
                <a:solidFill>
                  <a:srgbClr val="00b200"/>
                </a:solidFill>
                <a:uFillTx/>
                <a:latin typeface="Comic Sans MS"/>
                <a:hlinkClick r:id="rId2"/>
              </a:rPr>
              <a:t>www.gabbly.com</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l out the form and copy the text in the box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 the page on Wikispaces where you want to put the live ch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Edit this page"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he Embed Media button (it looks like a little TV)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te the text you copied into the "Source" box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OK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Save </a:t>
            </a:r>
            <a:endParaRPr b="0" lang="en-US" sz="2400" spc="-1" strike="noStrike">
              <a:solidFill>
                <a:srgbClr val="000000"/>
              </a:solidFill>
              <a:latin typeface="Comic Sans MS"/>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ll Checking</a:t>
            </a:r>
            <a:endParaRPr b="0" lang="en-US" sz="2800" spc="-1" strike="noStrike">
              <a:solidFill>
                <a:srgbClr val="000000"/>
              </a:solidFill>
              <a:latin typeface="Comic Sans MS"/>
            </a:endParaRPr>
          </a:p>
        </p:txBody>
      </p:sp>
      <p:sp>
        <p:nvSpPr>
          <p:cNvPr id="159"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ll Check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you use Firefox 2, you'll notice that the built-in spell checker now operates in our visual editor. </a:t>
            </a:r>
            <a:r>
              <a:rPr b="0" lang="en-US" sz="2400" spc="-1" strike="noStrike" u="sng">
                <a:solidFill>
                  <a:srgbClr val="000000"/>
                </a:solidFill>
                <a:uFillTx/>
                <a:latin typeface="Comic Sans MS"/>
              </a:rPr>
              <a:t>Mis-spelled words will be underlined in r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 you can download Google Spell Check Toolbar:</a:t>
            </a:r>
            <a:r>
              <a:rPr b="0" lang="en-US" sz="1800" spc="-1" strike="noStrike">
                <a:solidFill>
                  <a:srgbClr val="000000"/>
                </a:solidFill>
                <a:latin typeface="Comic Sans MS"/>
              </a:rPr>
              <a:t> http://www.google.com/tools/firefox/toolbar/FT3/intl/en/index.html?utm_campaign=en&amp;utm_source=en-ha-na-us-google&amp;utm_medium=ha&amp;utm_term=google%20spellcheck&amp;tbbrand=GFRG</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 Changes </a:t>
            </a:r>
            <a:endParaRPr b="0" lang="en-US" sz="28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Load Draft" and "Discard Changes" should take you to an editor, ready to edit. "Load Draft" recovers what you were last doing on the page, in case your browser closes or your computer crashes, or your network goes away. "Discard Changes" does mean discard unsaved draft, as in, edit the most recent saved version of the page and ignore any changes I may have been working on that aren't sav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1265040"/>
            <a:ext cx="8610480" cy="5059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kispaces Updates Index </a:t>
            </a:r>
            <a:r>
              <a:rPr b="0" lang="en-US" sz="1800" spc="-1" strike="noStrike" u="sng">
                <a:solidFill>
                  <a:srgbClr val="00b200"/>
                </a:solidFill>
                <a:uFillTx/>
                <a:latin typeface="Comic Sans MS"/>
                <a:hlinkClick r:id="rId1"/>
              </a:rPr>
              <a:t>http://www.wikispaces.com/Wikispaces+Update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 and Enjoy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op the developers (Adam, Dom, and James) an email at </a:t>
            </a:r>
            <a:r>
              <a:rPr b="0" lang="en-US" sz="1800" spc="-1" strike="noStrike" u="sng">
                <a:solidFill>
                  <a:srgbClr val="00b200"/>
                </a:solidFill>
                <a:uFillTx/>
                <a:latin typeface="Comic Sans MS"/>
                <a:hlinkClick r:id="rId2"/>
              </a:rPr>
              <a:t>help@wikispaces.com</a:t>
            </a:r>
            <a:r>
              <a:rPr b="0" lang="en-US" sz="1800" spc="-1" strike="noStrike">
                <a:solidFill>
                  <a:srgbClr val="000000"/>
                </a:solidFill>
                <a:latin typeface="Comic Sans MS"/>
              </a:rPr>
              <a:t> or leave a note on the front page discussion are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g on Wikispaces Features: </a:t>
            </a:r>
            <a:r>
              <a:rPr b="0" lang="en-US" sz="1800" spc="-1" strike="noStrike" u="sng">
                <a:solidFill>
                  <a:srgbClr val="00b200"/>
                </a:solidFill>
                <a:uFillTx/>
                <a:latin typeface="Comic Sans MS"/>
                <a:hlinkClick r:id="rId3"/>
              </a:rPr>
              <a:t>http://blog.wikispaces.com</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nges page: </a:t>
            </a:r>
            <a:r>
              <a:rPr b="0" lang="en-US" sz="1800" spc="-1" strike="noStrike" u="sng">
                <a:solidFill>
                  <a:srgbClr val="00b200"/>
                </a:solidFill>
                <a:uFillTx/>
                <a:latin typeface="Comic Sans MS"/>
                <a:hlinkClick r:id="rId4"/>
              </a:rPr>
              <a:t>http://www.wikispaces.com/change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Page: http://www.wikispaces.com/help+index</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ace of the Month: http://www.wikispaces.com/message/list/space+of+the+month</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 can recommend your own spaces to be the spaces of the month!)</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Great Support Sit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21:43:03Z</dcterms:created>
  <dc:creator>xwu</dc:creator>
  <dc:description/>
  <dc:language>en-US</dc:language>
  <cp:lastModifiedBy>xwu</cp:lastModifiedBy>
  <dcterms:modified xsi:type="dcterms:W3CDTF">2007-03-21T05:38:26Z</dcterms:modified>
  <cp:revision>37</cp:revision>
  <dc:subject/>
  <dc:title>Slide 1</dc:title>
</cp:coreProperties>
</file>